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8.gif" ContentType="image/gif"/>
  <Override PartName="/ppt/media/image27.wmf" ContentType="image/x-wmf"/>
  <Override PartName="/ppt/media/image16.jpeg" ContentType="image/jpeg"/>
  <Override PartName="/ppt/media/image25.jpeg" ContentType="image/jpeg"/>
  <Override PartName="/ppt/media/image22.png" ContentType="image/png"/>
  <Override PartName="/ppt/media/image1.jpeg" ContentType="image/jpeg"/>
  <Override PartName="/ppt/media/image21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EAD-A421-4812-912D-3EF68B12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0A3-D36E-46EF-941D-710EA394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758-EEDA-4367-ABDA-9036A891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6B0-F185-45D3-A72E-4B6B3A27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5D58-06F9-4EC7-A57C-104C63AA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8B63-E98B-4BF8-A837-0DB87C8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5F02-552B-456B-BE34-567D4D12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1DDE-1DBD-40C0-BB36-220EB55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F8A6-19BA-4868-98AF-EB8E313F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C366-3271-4FC8-A461-A5258168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B696-FBD0-4825-8005-1BB1F3A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560-3B17-4E1C-9B76-0B83CC04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B2C6-474C-4CFF-9DB7-A1468EB6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8242-C8B3-4F66-940A-00F44C6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FA7E-7936-46F1-BA14-FB932C65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974A-35C6-48A0-AA18-46D59705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431D-2A2D-4DA2-B0D2-9AC4C444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A19-CA63-4002-9A4F-5FC86373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ADA-1E61-456C-8A02-2D3935A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E67-5743-4EED-92F7-2CF97216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E00-E222-4F67-9AD9-E8085057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FF8-EF48-474A-AD9C-991A8EC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706-1544-4ED9-9517-68E5E396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E2D-06E5-44A5-ADDE-04DF752A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46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5b46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b462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b462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BF0D-693A-4362-9E16-6E812B03C134}" type="slidenum">
              <a:rPr b="1" lang="en-AU" sz="1400" spc="-1" strike="noStrike">
                <a:solidFill>
                  <a:srgbClr val="5b4628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basket_titleframe"/>
          <p:cNvPicPr/>
          <p:nvPr/>
        </p:nvPicPr>
        <p:blipFill>
          <a:blip r:embed="rId3"/>
          <a:stretch/>
        </p:blipFill>
        <p:spPr>
          <a:xfrm>
            <a:off x="1406520" y="1208160"/>
            <a:ext cx="6594480" cy="2378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46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5b46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B771-6895-45DB-906E-760C1377A83C}" type="slidenum">
              <a:rPr b="1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usport.gov.au/aasc/index.as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Hyperlinked%20resources/school2.pdf" TargetMode="External"/><Relationship Id="rId2" Type="http://schemas.openxmlformats.org/officeDocument/2006/relationships/hyperlink" Target="http://www.walkingschoolbus.com/" TargetMode="External"/><Relationship Id="rId3" Type="http://schemas.openxmlformats.org/officeDocument/2006/relationships/hyperlink" Target="http://www.travelsmart.gov.au/" TargetMode="Externa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ewhealth.govt.nz/" TargetMode="External"/><Relationship Id="rId2" Type="http://schemas.openxmlformats.org/officeDocument/2006/relationships/hyperlink" Target="http://www.dundee.ac.uk/sportexercise/events/2005/walkin.htm" TargetMode="External"/><Relationship Id="rId3" Type="http://schemas.openxmlformats.org/officeDocument/2006/relationships/hyperlink" Target="http://www.activelivingatwork.com/" TargetMode="External"/><Relationship Id="rId4" Type="http://schemas.openxmlformats.org/officeDocument/2006/relationships/hyperlink" Target="http://www.findthirty.com.au/" TargetMode="External"/><Relationship Id="rId5" Type="http://schemas.openxmlformats.org/officeDocument/2006/relationships/hyperlink" Target="http://www.shaw.uk.com/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pi.wa.gov.au/walking/713.asp" TargetMode="External"/><Relationship Id="rId2" Type="http://schemas.openxmlformats.org/officeDocument/2006/relationships/hyperlink" Target="http://www.whi.org.uk/" TargetMode="External"/><Relationship Id="rId3" Type="http://schemas.openxmlformats.org/officeDocument/2006/relationships/hyperlink" Target="http://www.path-to-health.com/" TargetMode="External"/><Relationship Id="rId4" Type="http://schemas.openxmlformats.org/officeDocument/2006/relationships/hyperlink" Target="http://www.joondalup.wa.gov.au/" TargetMode="Externa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ausport.gov.au/imagelibrary/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ausport.gov.au/imagelibrary/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ausport.gov.au/imagelibrary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www.ausport.gov.au/imagelibrary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cdc.gov/nccdphp/dnpa/physical/health_professionals/index.htm" TargetMode="External"/><Relationship Id="rId13" Type="http://schemas.openxmlformats.org/officeDocument/2006/relationships/hyperlink" Target="http://www.phac-aspc.gc.ca/hp-ps/index.html" TargetMode="External"/><Relationship Id="rId14" Type="http://schemas.openxmlformats.org/officeDocument/2006/relationships/hyperlink" Target="http://www.nphp.gov.au/workprog/sigpah/" TargetMode="External"/><Relationship Id="rId15" Type="http://schemas.openxmlformats.org/officeDocument/2006/relationships/hyperlink" Target="http://www.cdc.gov/HealthyYouth/" TargetMode="External"/><Relationship Id="rId16" Type="http://schemas.openxmlformats.org/officeDocument/2006/relationships/hyperlink" Target="http://www.americaonthemove.org/" TargetMode="External"/><Relationship Id="rId17" Type="http://schemas.openxmlformats.org/officeDocument/2006/relationships/hyperlink" Target="http://www.ijbnpa.org/home" TargetMode="External"/><Relationship Id="rId18" Type="http://schemas.openxmlformats.org/officeDocument/2006/relationships/hyperlink" Target="http://www.health.gov.au/internet/wcms/publishing.nsf/content/home" TargetMode="External"/><Relationship Id="rId19" Type="http://schemas.openxmlformats.org/officeDocument/2006/relationships/hyperlink" Target="http://www.healthyactive.gov.au/" TargetMode="External"/><Relationship Id="rId20" Type="http://schemas.openxmlformats.org/officeDocument/2006/relationships/hyperlink" Target="http://www.nphp.gov.au/" TargetMode="External"/><Relationship Id="rId21" Type="http://schemas.openxmlformats.org/officeDocument/2006/relationships/hyperlink" Target="http://www.beactive.com.au/" TargetMode="External"/><Relationship Id="rId22" Type="http://schemas.openxmlformats.org/officeDocument/2006/relationships/hyperlink" Target="http://www.sport.vic.gov.au/" TargetMode="External"/><Relationship Id="rId23" Type="http://schemas.openxmlformats.org/officeDocument/2006/relationships/hyperlink" Target="http://www.ausport.gov.au/" TargetMode="External"/><Relationship Id="rId24" Type="http://schemas.openxmlformats.org/officeDocument/2006/relationships/hyperlink" Target="http://www.find30.com.au/" TargetMode="External"/><Relationship Id="rId25" Type="http://schemas.openxmlformats.org/officeDocument/2006/relationships/hyperlink" Target="http://www.walkingbus.com/" TargetMode="External"/><Relationship Id="rId26" Type="http://schemas.openxmlformats.org/officeDocument/2006/relationships/hyperlink" Target="http://www.newhealth.govt.nz/" TargetMode="External"/><Relationship Id="rId27" Type="http://schemas.openxmlformats.org/officeDocument/2006/relationships/hyperlink" Target="http://www.10000steps.org.au/rockhampton/" TargetMode="External"/><Relationship Id="rId28" Type="http://schemas.openxmlformats.org/officeDocument/2006/relationships/hyperlink" Target="http://www.travelsmart.gov.au/" TargetMode="External"/><Relationship Id="rId29" Type="http://schemas.openxmlformats.org/officeDocument/2006/relationships/hyperlink" Target="http://www.who.int/" TargetMode="External"/><Relationship Id="rId30" Type="http://schemas.openxmlformats.org/officeDocument/2006/relationships/hyperlink" Target="http://www.heartfoundation.com.au/" TargetMode="External"/><Relationship Id="rId31" Type="http://schemas.openxmlformats.org/officeDocument/2006/relationships/hyperlink" Target="http://www.vichealth.vic.gov.au/" TargetMode="External"/><Relationship Id="rId32" Type="http://schemas.openxmlformats.org/officeDocument/2006/relationships/hyperlink" Target="http://www.beactive.com.au/" TargetMode="External"/><Relationship Id="rId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cdc.gov/nccdphp/dnpa/physical/health_professionals/index.htm" TargetMode="External"/><Relationship Id="rId13" Type="http://schemas.openxmlformats.org/officeDocument/2006/relationships/hyperlink" Target="http://www.phac-aspc.gc.ca/hp-ps/index.html" TargetMode="External"/><Relationship Id="rId14" Type="http://schemas.openxmlformats.org/officeDocument/2006/relationships/hyperlink" Target="http://www.nphp.gov.au/workprog/sigpah/" TargetMode="External"/><Relationship Id="rId15" Type="http://schemas.openxmlformats.org/officeDocument/2006/relationships/hyperlink" Target="http://www.cdc.gov/HealthyYouth/" TargetMode="External"/><Relationship Id="rId16" Type="http://schemas.openxmlformats.org/officeDocument/2006/relationships/hyperlink" Target="http://www.americaonthemove.org/" TargetMode="External"/><Relationship Id="rId17" Type="http://schemas.openxmlformats.org/officeDocument/2006/relationships/hyperlink" Target="http://www.ijbnpa.org/home" TargetMode="External"/><Relationship Id="rId18" Type="http://schemas.openxmlformats.org/officeDocument/2006/relationships/hyperlink" Target="http://www.health.gov.au/internet/wcms/publishing.nsf/content/home" TargetMode="External"/><Relationship Id="rId19" Type="http://schemas.openxmlformats.org/officeDocument/2006/relationships/hyperlink" Target="http://www.healthyactive.gov.au/" TargetMode="External"/><Relationship Id="rId20" Type="http://schemas.openxmlformats.org/officeDocument/2006/relationships/hyperlink" Target="http://www.nphp.gov.au/" TargetMode="External"/><Relationship Id="rId21" Type="http://schemas.openxmlformats.org/officeDocument/2006/relationships/hyperlink" Target="http://www.beactive.com.au/" TargetMode="External"/><Relationship Id="rId22" Type="http://schemas.openxmlformats.org/officeDocument/2006/relationships/hyperlink" Target="http://www.sport.vic.gov.au/" TargetMode="External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ho.int/en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heartfoundation.com.au/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61832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</p:txBody>
      </p:sp>
      <p:pic>
        <p:nvPicPr>
          <p:cNvPr id="86" name="Picture 16" descr="schools23"/>
          <p:cNvPicPr/>
          <p:nvPr/>
        </p:nvPicPr>
        <p:blipFill>
          <a:blip r:embed="rId1"/>
          <a:stretch/>
        </p:blipFill>
        <p:spPr>
          <a:xfrm>
            <a:off x="5762520" y="2685960"/>
            <a:ext cx="2381400" cy="2019240"/>
          </a:xfrm>
          <a:prstGeom prst="rect">
            <a:avLst/>
          </a:prstGeom>
          <a:ln w="12600">
            <a:solidFill>
              <a:srgbClr val="4d4d4d"/>
            </a:solidFill>
            <a:miter/>
          </a:ln>
        </p:spPr>
      </p:pic>
      <p:sp>
        <p:nvSpPr>
          <p:cNvPr id="8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68360" y="1989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0" descr="bookCover_34"/>
          <p:cNvPicPr/>
          <p:nvPr/>
        </p:nvPicPr>
        <p:blipFill>
          <a:blip r:embed="rId2"/>
          <a:stretch/>
        </p:blipFill>
        <p:spPr>
          <a:xfrm>
            <a:off x="3564000" y="1916280"/>
            <a:ext cx="1473120" cy="194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Live it up 2"/>
          <p:cNvPicPr/>
          <p:nvPr/>
        </p:nvPicPr>
        <p:blipFill>
          <a:blip r:embed="rId3"/>
          <a:stretch/>
        </p:blipFill>
        <p:spPr>
          <a:xfrm>
            <a:off x="3564000" y="4149720"/>
            <a:ext cx="14335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Community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1267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A ‘community’ refers to local groups of people, whole cities or whole nations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trengthening the communities knowledge and interest in the benefits of physical activity is therefore vital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3280" y="134100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mmunity strategies include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eveloping local facilit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Use of community venues that encourage physical activity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ree health checks at shopping centr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ducative sessions for community members on health issue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Review of council polic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g. ‘Leading the way’ resource for councils.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33"/>
          <p:cNvPicPr/>
          <p:nvPr/>
        </p:nvPicPr>
        <p:blipFill>
          <a:blip r:embed="rId1"/>
          <a:stretch/>
        </p:blipFill>
        <p:spPr>
          <a:xfrm>
            <a:off x="1116000" y="4724280"/>
            <a:ext cx="270036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Community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Community settings provide opportunities to;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upport local council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e PA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ork with transport agenc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crease access to facilit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upport media campaign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0" y="2643120"/>
            <a:ext cx="9144000" cy="1571400"/>
            <a:chOff x="0" y="2643120"/>
            <a:chExt cx="9144000" cy="1571400"/>
          </a:xfrm>
        </p:grpSpPr>
        <p:sp>
          <p:nvSpPr>
            <p:cNvPr id="141" name="Rectangle 7"/>
            <p:cNvSpPr/>
            <p:nvPr/>
          </p:nvSpPr>
          <p:spPr>
            <a:xfrm>
              <a:off x="0" y="2643120"/>
              <a:ext cx="6242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1"/>
            <p:cNvGrpSpPr/>
            <p:nvPr/>
          </p:nvGrpSpPr>
          <p:grpSpPr>
            <a:xfrm>
              <a:off x="0" y="2643120"/>
              <a:ext cx="9144000" cy="1571400"/>
              <a:chOff x="0" y="2643120"/>
              <a:chExt cx="9144000" cy="1571400"/>
            </a:xfrm>
          </p:grpSpPr>
          <p:sp>
            <p:nvSpPr>
              <p:cNvPr id="143" name="Rectangle 8"/>
              <p:cNvSpPr/>
              <p:nvPr/>
            </p:nvSpPr>
            <p:spPr>
              <a:xfrm>
                <a:off x="0" y="2643120"/>
                <a:ext cx="6242040" cy="15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9"/>
              <p:cNvSpPr/>
              <p:nvPr/>
            </p:nvSpPr>
            <p:spPr>
              <a:xfrm>
                <a:off x="0" y="2643120"/>
                <a:ext cx="9144000" cy="14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AU" sz="8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19"/>
          <p:cNvGrpSpPr/>
          <p:nvPr/>
        </p:nvGrpSpPr>
        <p:grpSpPr>
          <a:xfrm>
            <a:off x="0" y="2643120"/>
            <a:ext cx="9144000" cy="1571400"/>
            <a:chOff x="0" y="2643120"/>
            <a:chExt cx="9144000" cy="1571400"/>
          </a:xfrm>
        </p:grpSpPr>
        <p:sp>
          <p:nvSpPr>
            <p:cNvPr id="146" name="Rectangle 14"/>
            <p:cNvSpPr/>
            <p:nvPr/>
          </p:nvSpPr>
          <p:spPr>
            <a:xfrm>
              <a:off x="0" y="2643120"/>
              <a:ext cx="6242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8"/>
            <p:cNvGrpSpPr/>
            <p:nvPr/>
          </p:nvGrpSpPr>
          <p:grpSpPr>
            <a:xfrm>
              <a:off x="0" y="2643120"/>
              <a:ext cx="9144000" cy="1571400"/>
              <a:chOff x="0" y="2643120"/>
              <a:chExt cx="9144000" cy="157140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0" y="2643120"/>
                <a:ext cx="6242040" cy="15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0" y="2643120"/>
                <a:ext cx="914400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  </a:t>
                </a:r>
                <a:r>
                  <a:rPr b="1" lang="en-AU" sz="95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 </a:t>
                </a:r>
                <a:r>
                  <a:rPr b="1" lang="en-AU" sz="6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                                                                            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20"/>
          <p:cNvSpPr/>
          <p:nvPr/>
        </p:nvSpPr>
        <p:spPr>
          <a:xfrm>
            <a:off x="8155440" y="914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6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1" descr="j0336395"/>
          <p:cNvPicPr/>
          <p:nvPr/>
        </p:nvPicPr>
        <p:blipFill>
          <a:blip r:embed="rId1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j0182782"/>
          <p:cNvPicPr/>
          <p:nvPr/>
        </p:nvPicPr>
        <p:blipFill>
          <a:blip r:embed="rId2"/>
          <a:stretch/>
        </p:blipFill>
        <p:spPr>
          <a:xfrm>
            <a:off x="6443640" y="1341360"/>
            <a:ext cx="238932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j0202188"/>
          <p:cNvPicPr/>
          <p:nvPr/>
        </p:nvPicPr>
        <p:blipFill>
          <a:blip r:embed="rId3"/>
          <a:stretch/>
        </p:blipFill>
        <p:spPr>
          <a:xfrm>
            <a:off x="3203640" y="4221000"/>
            <a:ext cx="3081240" cy="2059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j0289398"/>
          <p:cNvPicPr/>
          <p:nvPr/>
        </p:nvPicPr>
        <p:blipFill>
          <a:blip r:embed="rId4"/>
          <a:stretch/>
        </p:blipFill>
        <p:spPr>
          <a:xfrm>
            <a:off x="4643280" y="1700280"/>
            <a:ext cx="1495440" cy="2260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j0289499"/>
          <p:cNvPicPr/>
          <p:nvPr/>
        </p:nvPicPr>
        <p:blipFill>
          <a:blip r:embed="rId5"/>
          <a:stretch/>
        </p:blipFill>
        <p:spPr>
          <a:xfrm>
            <a:off x="6443640" y="5084640"/>
            <a:ext cx="2333520" cy="154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520" y="1571760"/>
            <a:ext cx="7910280" cy="16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School Setting-based Programs</a:t>
            </a:r>
            <a:endParaRPr b="0" lang="en-US" sz="5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chool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0920" y="134100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Schools play a major role in shaping children’s attitudes towards PA and living an active lifestyle. Schools encourage lifelong patterns of PA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School based programs are;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Moderately effective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eople who participated in these programs are more likely to be active for life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rint material and school curriculum appears to be the most effective methods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00360" y="14130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Active after schools program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ausport.gov.au/aasc/index.asp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However PA decreases as students during the secondary years due to a crowded curriculum and student subject choices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Schools can increase PA by;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Following government recommendations for time allocated to PE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roviding sufficient sports equipment and facilities / public use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romoting school sporting events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916360" y="2205000"/>
            <a:ext cx="3168360" cy="2089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132000" y="2565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at intervention strategies could we do at our schoo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H="1" flipV="1">
            <a:off x="2195280" y="1699920"/>
            <a:ext cx="1081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442764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5651640" y="1773000"/>
            <a:ext cx="865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6084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1834920" y="328464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347640" y="414972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4859280" y="42926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796000" y="386064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600" y="3860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ing TV Wa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983960" y="515772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ing video g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4719240" y="53006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e family progra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6445800" y="465300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e transport 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2630880" y="83664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nd out of school community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7023240" y="29973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equi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254880" y="134136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ra curricula initia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6736320" y="1484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licy ch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chool Setting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Recommended Activities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E and Sport classes in the curriculu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Opportunities to participate in extra-curricular activit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ree play at recess and lunch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alking School Bus progra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ctive playground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arental involvement with children’s sporting interest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686400" cy="4267440"/>
          </a:xfrm>
          <a:prstGeom prst="rect">
            <a:avLst/>
          </a:prstGeom>
          <a:ln w="0">
            <a:noFill/>
          </a:ln>
        </p:spPr>
      </p:pic>
      <p:sp>
        <p:nvSpPr>
          <p:cNvPr id="18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chool Program Example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413000"/>
          <a:ext cx="8381880" cy="4014720"/>
        </p:xfrm>
        <a:graphic>
          <a:graphicData uri="http://schemas.openxmlformats.org/drawingml/2006/table">
            <a:tbl>
              <a:tblPr/>
              <a:tblGrid>
                <a:gridCol w="2438280"/>
                <a:gridCol w="2024280"/>
                <a:gridCol w="947520"/>
                <a:gridCol w="297180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P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/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 use of ov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use of green spa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vering the TurtleWay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L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necting paths and cycle-ways between township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escent playground marking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children playing in specific are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1"/>
                        </a:rPr>
                        <a:t>Walking school bu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2"/>
                        </a:rPr>
                        <a:t>www.walkingschoolbus.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increase amount of PA and safe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velSmart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3"/>
                        </a:rPr>
                        <a:t>www.travelsmart.gov.au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LD, VIC, SA and W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inable travel arrange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Primary School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PA at school and beyo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  <p:sp>
        <p:nvSpPr>
          <p:cNvPr id="1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457200" y="571500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se Study 3.1, 3.2  p.72-3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boratory 3.3 p.7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6" descr="AG00317_"/>
          <p:cNvPicPr/>
          <p:nvPr/>
        </p:nvPicPr>
        <p:blipFill>
          <a:blip r:embed="rId4"/>
          <a:stretch/>
        </p:blipFill>
        <p:spPr>
          <a:xfrm>
            <a:off x="8077320" y="5410080"/>
            <a:ext cx="83016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7160" y="1571760"/>
            <a:ext cx="7910640" cy="16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08080"/>
                </a:solidFill>
                <a:latin typeface="Arial"/>
              </a:rPr>
              <a:t>Workplace Setting-based Programs</a:t>
            </a:r>
            <a:endParaRPr b="0" lang="en-US" sz="4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orkplace Program Example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1197000"/>
          <a:ext cx="8381880" cy="5256360"/>
        </p:xfrm>
        <a:graphic>
          <a:graphicData uri="http://schemas.openxmlformats.org/drawingml/2006/table">
            <a:tbl>
              <a:tblPr/>
              <a:tblGrid>
                <a:gridCol w="2133360"/>
                <a:gridCol w="2781360"/>
                <a:gridCol w="792360"/>
                <a:gridCol w="267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P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/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t Beat Challenge, Lets Get Moving and Stroll, Strut, Stride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1"/>
                        </a:rPr>
                        <a:t>www.newhealth.govt.nz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Z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PA at work and health awarene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in to Work Out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2"/>
                        </a:rPr>
                        <a:t>http://www.dundee.ac.uk/sportexercise/events/2005/walkin.ht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self-help inform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irway to Health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3"/>
                        </a:rPr>
                        <a:t>www.activelivingatwork.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use of stairs at wor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d 30 – its not a big exercise’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4"/>
                        </a:rPr>
                        <a:t>http://www.findthirty.com.au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s for a healthier approach to PA in the workfo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at Work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5"/>
                        </a:rPr>
                        <a:t>http://www.shaw.uk.com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 for businesses which promote PA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57160" y="1500120"/>
            <a:ext cx="7910640" cy="16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08080"/>
                </a:solidFill>
                <a:latin typeface="Arial"/>
              </a:rPr>
              <a:t>Community Setting-based Programs</a:t>
            </a:r>
            <a:endParaRPr b="0" lang="en-US" sz="4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hat’s Wrong with this Picture?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lazyfitness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14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5b4628"/>
                </a:solidFill>
                <a:latin typeface="Arial"/>
              </a:rPr>
              <a:t>Community Program Examples</a:t>
            </a:r>
            <a:endParaRPr b="0" lang="en-US" sz="36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197000"/>
          <a:ext cx="8229600" cy="4807080"/>
        </p:xfrm>
        <a:graphic>
          <a:graphicData uri="http://schemas.openxmlformats.org/drawingml/2006/table">
            <a:tbl>
              <a:tblPr/>
              <a:tblGrid>
                <a:gridCol w="2095560"/>
                <a:gridCol w="2360520"/>
                <a:gridCol w="855720"/>
                <a:gridCol w="291780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P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/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nong Common Health Walks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1"/>
                        </a:rPr>
                        <a:t>http://www.dpi.wa.gov.au/walking/713.as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of volunteers to lead regular nature walks in the local environ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ing the Way to Health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2"/>
                        </a:rPr>
                        <a:t>http://www.whi.org.uk/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ing recreational walking safer and provides information for walkers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 to Health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3"/>
                        </a:rPr>
                        <a:t>http://www.path-to-health.com/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ing paths close to existing footpaths. Located near residences and workplac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nley Community Walk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-monthly walks lead by volunteer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and Talk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walking groups promoting PA and social environmen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ping Out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 adult walking groups and provides resources/ki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e skate park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4"/>
                        </a:rPr>
                        <a:t>www.joondalup.wa.gov.a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 skate environment for any communit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87"/>
          <p:cNvSpPr/>
          <p:nvPr/>
        </p:nvSpPr>
        <p:spPr>
          <a:xfrm>
            <a:off x="685800" y="60199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se Study 3.4  p.7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8" descr="AG00317_"/>
          <p:cNvPicPr/>
          <p:nvPr/>
        </p:nvPicPr>
        <p:blipFill>
          <a:blip r:embed="rId5"/>
          <a:stretch/>
        </p:blipFill>
        <p:spPr>
          <a:xfrm>
            <a:off x="8229600" y="5715000"/>
            <a:ext cx="71136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4628"/>
                </a:solidFill>
                <a:latin typeface="Arial"/>
              </a:rPr>
              <a:t>Specific Physical Activity Approaches - Federal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14400" y="1196640"/>
            <a:ext cx="39225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ederal Program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ustralian Institute of Sport (AIS)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Sports Performance and Developmen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ausport.gov.au/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ustralian Spor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mmission Busines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92840" y="1267920"/>
            <a:ext cx="39225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ctive after school communit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Junior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Indigenous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isability Progra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omen in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rugs in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laying Fair – ethics in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Membership Growth and Club Developmen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aching and Officiating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ogo_asc"/>
          <p:cNvPicPr/>
          <p:nvPr/>
        </p:nvPicPr>
        <p:blipFill>
          <a:blip r:embed="rId2"/>
          <a:stretch/>
        </p:blipFill>
        <p:spPr>
          <a:xfrm>
            <a:off x="3357720" y="0"/>
            <a:ext cx="1801800" cy="941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Young child plays a game of rugby Photo: NSIC collection AS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5157720"/>
            <a:ext cx="2022480" cy="132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young children work with a tennis coach Photo: NSIC collection AS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4508640"/>
            <a:ext cx="1290600" cy="1780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AIS outdoor synthentic track Photo: ASC collection NSIC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56000" y="4437000"/>
            <a:ext cx="2336760" cy="1892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AIS Visitors Centre in Canberra Photo: ASC collection NSI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8360" y="5373720"/>
            <a:ext cx="151272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4628"/>
                </a:solidFill>
                <a:latin typeface="Arial"/>
              </a:rPr>
              <a:t>Specific Physical Activity Approaches - State</a:t>
            </a: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port and Recreation Victoria (SRV)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Access for all abilit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digenous Sport and Recreation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Masters Sport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hysical Activity Initiativ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omen in Sport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9284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Junior Sport Conference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Community Organisation Development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Member Protection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SRV funding grants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RV Funding Project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179280" y="1268280"/>
          <a:ext cx="87631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7631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AG00550_"/>
          <p:cNvPicPr/>
          <p:nvPr/>
        </p:nvPicPr>
        <p:blipFill>
          <a:blip r:embed="rId3"/>
          <a:stretch/>
        </p:blipFill>
        <p:spPr>
          <a:xfrm>
            <a:off x="7421400" y="5181480"/>
            <a:ext cx="1722600" cy="140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5b4628"/>
                </a:solidFill>
                <a:latin typeface="Arial"/>
              </a:rPr>
              <a:t>Program Effectiveness Summary</a:t>
            </a:r>
            <a:endParaRPr b="0" lang="en-US" sz="36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528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Evidence for increase in PA level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hole school approach’ most effectiv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ositive impact on local communit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Flow on effect to parents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3280" y="1341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orkplac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crease in PA levels and staff health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vide good short term benefit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blems do exist with current program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Little evidence of how effect these programs are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ten Report 3.5 p.80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G00317_"/>
          <p:cNvPicPr/>
          <p:nvPr/>
        </p:nvPicPr>
        <p:blipFill>
          <a:blip r:embed="rId1"/>
          <a:stretch/>
        </p:blipFill>
        <p:spPr>
          <a:xfrm>
            <a:off x="8153280" y="4572000"/>
            <a:ext cx="83052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8308080" y="914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8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j0336395"/>
          <p:cNvPicPr/>
          <p:nvPr/>
        </p:nvPicPr>
        <p:blipFill>
          <a:blip r:embed="rId2"/>
          <a:stretch/>
        </p:blipFill>
        <p:spPr>
          <a:xfrm>
            <a:off x="8229600" y="2286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eb Links – Chapter 3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30" name="Rectangle 8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7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33" name="Rectangle 3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4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Rectangle 6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Rectangle 11"/>
          <p:cNvSpPr/>
          <p:nvPr/>
        </p:nvSpPr>
        <p:spPr>
          <a:xfrm>
            <a:off x="0" y="137160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3"/>
              </a:rPr>
              <a:t>http://www.auspo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Find 30 promotion (Government of WA Department of Health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4"/>
              </a:rPr>
              <a:t>http://www.find30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alking School Bus promotion (UK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5"/>
              </a:rPr>
              <a:t>http://www.walkingbus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Ministry of Health (New Zealand) toolkits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6"/>
              </a:rPr>
              <a:t>http://www.newhealth.govt.nz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10,000 Steps Rockhampton project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7"/>
              </a:rPr>
              <a:t>http://www.10000steps.org.au/rockhampton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ravelsmart Australia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8"/>
              </a:rPr>
              <a:t>http://www.travelsma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Organisat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9"/>
              </a:rPr>
              <a:t>http://www.who.i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eart Foundation Australia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0"/>
              </a:rPr>
              <a:t>http://www.heartfoundation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VicHealth (The Victorian Health Promotion Foundation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1"/>
              </a:rPr>
              <a:t>http://www.vichealth.vic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2"/>
              </a:rPr>
              <a:t>http://www.beactive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11600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b Links – Chapter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40" name="Rectangle 4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5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42" name="Group 6"/>
              <p:cNvGrpSpPr/>
              <p:nvPr/>
            </p:nvGrpSpPr>
            <p:grpSpPr>
              <a:xfrm>
                <a:off x="0" y="1562040"/>
                <a:ext cx="9144000" cy="3724920"/>
                <a:chOff x="0" y="1562040"/>
                <a:chExt cx="9144000" cy="3724920"/>
              </a:xfrm>
            </p:grpSpPr>
            <p:sp>
              <p:nvSpPr>
                <p:cNvPr id="243" name="Rectangle 7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8"/>
                <p:cNvSpPr/>
                <p:nvPr/>
              </p:nvSpPr>
              <p:spPr>
                <a:xfrm>
                  <a:off x="0" y="1562040"/>
                  <a:ext cx="9144000" cy="372492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Rectangle 9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Rectangle 12"/>
          <p:cNvSpPr/>
          <p:nvPr/>
        </p:nvSpPr>
        <p:spPr>
          <a:xfrm>
            <a:off x="0" y="1371600"/>
            <a:ext cx="9144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hysical Activity Resources for Health Professionals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Introduction (Centre for disease control and prevention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US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2"/>
              </a:rPr>
              <a:t>http://www.cdc.gov/nccdphp/dnpa/physical/health_professionals/index.htm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 Promotion (Public Health Agency of Canad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3"/>
              </a:rPr>
              <a:t>http://www.phac-aspc.gc.ca/hp-ps/index.html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trategic Inter-Governmental Forum on Physical Activity and Health (SIGPAH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4"/>
              </a:rPr>
              <a:t>http://www.nphp.gov.au/workprog/sigpah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y youth (Centre for disease control and prevention (US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5"/>
              </a:rPr>
              <a:t>http://www.cdc.gov/HealthyYouth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On The Move promotion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6"/>
              </a:rPr>
              <a:t>http://www.americaonthemove.or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apers from the International Journal of Behavioural Nutrition and Physical Activity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7"/>
              </a:rPr>
              <a:t>http://www.ijbnpa.org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Department of health and aging (Australian government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8"/>
              </a:rPr>
              <a:t>http://www.health.gov.au/internet/wcms/publishing.nsf/content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uilding a healthy, active Australia (Australian government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9"/>
              </a:rPr>
              <a:t>http://www.healthyactive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Public Health Partnership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0"/>
              </a:rPr>
              <a:t>http://www.nphp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1"/>
              </a:rPr>
              <a:t>http://www.beactive.com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port and Recreation Australia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2"/>
              </a:rPr>
              <a:t>http://www.sport.vic.gov.au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>
            <a:hlinkClick r:id="rId23" action="ppaction://hlinksldjump"/>
          </p:cNvPr>
          <p:cNvSpPr/>
          <p:nvPr/>
        </p:nvSpPr>
        <p:spPr>
          <a:xfrm>
            <a:off x="81532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A Settings Approach</a:t>
            </a:r>
            <a:endParaRPr b="0" lang="en-US" sz="5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A Settings Approach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9640" y="1125000"/>
            <a:ext cx="392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hy are people less physically active?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Reliance on technology / motorised tran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More people living in urban environmen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hanges in work practice / hour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hanges in leisure patterns due to work / education need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3280" y="1125000"/>
            <a:ext cx="392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 setting is an area where the health message can be communicated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xamples include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1" action="ppaction://hlinksldjump"/>
              </a:rPr>
              <a:t>Family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2" action="ppaction://hlinksldjump"/>
              </a:rPr>
              <a:t>Transport system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3" action="ppaction://hlinksldjump"/>
              </a:rPr>
              <a:t>Healthcare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4" action="ppaction://hlinksldjump"/>
              </a:rPr>
              <a:t>Workplace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5" action="ppaction://hlinksldjump"/>
              </a:rPr>
              <a:t>Schools</a:t>
            </a: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 Eg. Walking to school progra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6" action="ppaction://hlinksldjump"/>
              </a:rPr>
              <a:t>Multiple Setting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Organization Chart 2"/>
          <p:cNvGrpSpPr/>
          <p:nvPr/>
        </p:nvGrpSpPr>
        <p:grpSpPr>
          <a:xfrm>
            <a:off x="457200" y="1197000"/>
            <a:ext cx="8228880" cy="4524480"/>
            <a:chOff x="457200" y="1197000"/>
            <a:chExt cx="8228880" cy="452448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58760" y="20181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>
              <a:off x="4571280" y="30060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2678760" y="20185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1"/>
            <p:cNvSpPr/>
            <p:nvPr/>
          </p:nvSpPr>
          <p:spPr>
            <a:xfrm>
              <a:off x="3337200" y="11970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tting-based 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457200" y="39117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 School setting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337200" y="39117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 Work Setting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4"/>
            <p:cNvSpPr/>
            <p:nvPr/>
          </p:nvSpPr>
          <p:spPr>
            <a:xfrm>
              <a:off x="6217560" y="39117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 Community 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j0149057"/>
          <p:cNvPicPr/>
          <p:nvPr/>
        </p:nvPicPr>
        <p:blipFill>
          <a:blip r:embed="rId1"/>
          <a:stretch/>
        </p:blipFill>
        <p:spPr>
          <a:xfrm>
            <a:off x="6012000" y="1197000"/>
            <a:ext cx="2765160" cy="197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185183"/>
          <p:cNvPicPr/>
          <p:nvPr/>
        </p:nvPicPr>
        <p:blipFill>
          <a:blip r:embed="rId2"/>
          <a:stretch/>
        </p:blipFill>
        <p:spPr>
          <a:xfrm>
            <a:off x="250920" y="1125360"/>
            <a:ext cx="298116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5920" y="1356840"/>
            <a:ext cx="6572160" cy="21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08080"/>
                </a:solidFill>
                <a:latin typeface="Arial"/>
              </a:rPr>
              <a:t>Suitability of School, Community and Workplace Settings for Physical Activity Interventions</a:t>
            </a:r>
            <a:endParaRPr b="0" lang="en-US" sz="36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Family and Transport Setting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00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amily Setting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amily is a primary influence on child and adolescent health behaviour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arent’s play a key role in stimulating children’s interest in physical activitie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arents need to be active role models for their children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164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ransport Setting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ars and public transport are the most common methods of transport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hese methods require little physical activity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ransport should involve some level of activity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xamples; Walk or ride to work/school, park further away from work/school, get of the tram a stop earlier and walk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See ‘Go for your Life’ TV ad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j0185217"/>
          <p:cNvPicPr/>
          <p:nvPr/>
        </p:nvPicPr>
        <p:blipFill>
          <a:blip r:embed="rId1"/>
          <a:stretch/>
        </p:blipFill>
        <p:spPr>
          <a:xfrm>
            <a:off x="1042920" y="4292640"/>
            <a:ext cx="327024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Healthcare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00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Healthcare provides the link between getting sufficient physical activity and good health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xamples of healthcare groups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VicHealth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VICFI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sthma Victoria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iabetes Victoria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Health Professionals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octors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g. Active scrip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hysiotherapis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Nutritionis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3280" y="1341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orld Health Organisation (WHO)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Strives to use a variety of settings to implement comprehensive studies.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National Heart Foundation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ims to increase community fitness level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Gives physical and social support through social setting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who_logo_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924280"/>
            <a:ext cx="396252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5410080"/>
            <a:ext cx="2209680" cy="685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8231760" y="914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6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j0336395"/>
          <p:cNvPicPr/>
          <p:nvPr/>
        </p:nvPicPr>
        <p:blipFill>
          <a:blip r:embed="rId5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orkplace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on of PA at work assists with;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mproved moral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creased work productivity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Reduced ‘sickies’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Less feeling of being stressed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Reduced staff turn over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mproved community relation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ifficulties include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Lack of interest at management level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he size of the organisation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acilities available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Lack of support or interest from worker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2743200" cy="23032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1524240" cy="1676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Lyn Clarkson</cp:lastModifiedBy>
  <dcterms:modified xsi:type="dcterms:W3CDTF">2008-03-11T04:22:25Z</dcterms:modified>
  <cp:revision>172</cp:revision>
  <dc:subject/>
  <dc:title>Unit 3</dc:title>
</cp:coreProperties>
</file>